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D3D4-5D82-4803-884F-265D161C3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1315-9272-4F29-9B7E-B93FF6A1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1B77-DF1A-4C0D-A9C3-9CCC5E0A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A8CC-89EF-4BEF-83A4-1C09FF8AF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160B-F06D-452D-A3DA-91F6E5F0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6566-808F-4A9C-A5C7-0686621E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DE4A-282E-47B4-98B1-53DAF35E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6224-A062-4C6F-98E5-D5896D24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C79D-C989-45BD-8CF9-8806DF3A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6F40-2D68-4B0F-837D-491F0FB3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3154-286E-4C30-9F47-6695E5D2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38DE-BEF5-4CA9-82A7-1DE33DA5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3366-214F-4B17-9001-5304FE1AA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CIZI ŞI BA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nualul de Chimie,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Elena Alexandrescu, Viorica Zaharia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90920" y="4572000"/>
            <a:ext cx="3781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esiunea iunie-iul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izii şi bazele sunt substanţe compuse anorganice sau organice implicate în multe procese naturale sau în reacţiile aplicate în laboratoarele de chimie şi în industria chimic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dicatorii acido-bazici sunt substanţe organi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ra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e îşi schimbă structura şi, în consecinţă, culoarea, în funcţie de caracterul acid sau b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c al soluţ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oluţia apoasă diluată de acid clorhidric, concentraţia ionilor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mare, pentru că, practic, toate moleculele de acid clorhidric au ionizat la dizolvare. Acidul clorhidric este un acid tare. În aceste condiţii, mai multe molecule de turnesol şi-au schimbat structura şi culoarea roşie este mai intensă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şi alte teorii în chimie care definesc noţiunile de acid şi baz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ul 1880, Svante Arrhenius  a definit acizii ca substanţe compuse care, în soluţie apoasă, formează ioni hidrataţi de 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rogen (H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(aq)) şi bazele ca substanţe compuse care eliberează în soluţie ioni metalici (Me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n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şi ioni hidroxid (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 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bstanţe ca HCI,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,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OH sunt acizi Arrhenius, iar substanţe ca NaOH, Ca(OH)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KOH sunt baze Arrhen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0290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8"/>
          <p:cNvSpPr/>
          <p:nvPr/>
        </p:nvSpPr>
        <p:spPr>
          <a:xfrm>
            <a:off x="533520" y="1066680"/>
            <a:ext cx="784836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licaț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. Compoziţia  procentuală de masă a unui oxoacid cu M=98 este:  2,04% H, 32,653% S, 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306%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abiliţi formula moleculară a oxoacidul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ecuaţiile reacţiilor de ionizare ce au loc la dizolvarea oxoacidului în ap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reciaţi tăria oxoacidului, ştiind că are constantele de aciditate :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,2*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2. Metilamina (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este o bază slabă. În soluţia apoasă de metilamină,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ai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3. Acidul iodhidric  (HI) este un acid foarte tare. În soluţia apoasă de acid iodhidric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ii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concentraţii egale cu concentraţia iniţială a acid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ionii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1596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12a3</cp:lastModifiedBy>
  <dcterms:modified xsi:type="dcterms:W3CDTF">2012-06-10T10:59:16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